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90DE-2CB2-4F6D-B75F-3E0BD2B9A68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: вы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для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508-EC88-40B7-A65F-92C0D8D4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B5C-6D96-4217-9214-61BD3A58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070-7B38-470D-BC51-F1DA98DE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CFB-5F5A-47A0-A47F-C14384F7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4CAC-F615-40D8-8552-D2D33BC0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6F54-F0AC-4424-9A6C-7E63C7C6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39B0-3766-422A-94A4-9C7E0B98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A266-0689-4E9A-97DD-682C4689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EBE6-B913-4837-A88C-9CFADA88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0306-D09F-405F-9A57-69DB0D73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9747-3364-4993-8DC4-DFC375EC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F8D-4E23-4BD1-BCE8-3E2D350D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4578-4461-4F58-86C1-26F38EC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E497-575B-4DE6-80A1-CED0DC5C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6993-F61B-4678-865A-0687EE6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F7D8-DDEB-47CE-9928-3CBC0C62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8E71-3329-44A4-98B1-95714ED4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8C3-E4E1-4B63-A9CF-760D4FB4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BDC-35AE-44E1-A47A-DAFD1891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4A8-D11A-40FD-AEB5-B901B24A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8B2-3918-4DE6-B144-2F5F0BB7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BED-B6E3-455C-A149-B698478D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45D-D70B-4F2C-8896-853BF75E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B1D-EA4C-4C60-B487-4E5C9A2F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A2AA-10F3-441A-A852-D7B27BE6E5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16F8-33F7-4B0A-BDFB-EC6881FD02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емельные ресурсы: 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с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Лесные ресурсы – значение для эколог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(2,19%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средоточен в полярных и горных ледниках (1,74%) и в пресных водах рек, озер и болот (0,4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льзование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- это порядок, условия и формы использования водных ресурсов, включающее в себя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требление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013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ерв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опреснение соленой морской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то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опреснение засолённых пресных подземных в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ети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тилизация воды в твёрдой фаз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97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воевременное удовлетворение потребностей в пресной воде необходимого количества и качеств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ьных потребностей в производстве сельхозпродукц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-климатических условий (от среднегодовой температуры - в США она равна +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в России - +5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вня развития сельскохозяйстве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8:39:14Z</dcterms:created>
  <dc:creator>user</dc:creator>
  <dc:description/>
  <dc:language>en-US</dc:language>
  <cp:lastModifiedBy>LEGION</cp:lastModifiedBy>
  <dcterms:modified xsi:type="dcterms:W3CDTF">2016-01-04T13:41:19Z</dcterms:modified>
  <cp:revision>25</cp:revision>
  <dc:subject/>
  <dc:title>Земельные ресурсы</dc:title>
</cp:coreProperties>
</file>